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857A-99B3-4D48-A851-CB2E3711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24B5-53E1-4470-8D71-B45167CC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87BB-A16A-4681-AF47-DCF73BE22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C318-AE69-41DE-9AC4-2C95E2CB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6CB-DE69-458F-B8C3-AEF0AA144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5D2-0B1E-4941-A682-79530C18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F678-4BB7-47F3-A2DE-A1A61891B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F0F-A271-4CD4-8672-10E339C7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09D-F49D-46B8-81E1-549CBC1F2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121-29DC-4EA7-977F-DEB0A0A5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D35-140A-4460-8270-B3B8F586F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75C-11CB-4B4B-B47F-6C2EFD09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9BC-11FA-4F4E-8A15-188814218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FA32-8535-45CF-90B8-F2987DEDC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7F20-4DF3-4719-B257-E9BBE5DA3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0D27-FCB8-434A-85DF-491A3B7E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F85E-CE71-454B-BBFD-FE755E8FA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473F-DD0E-4ADF-92E4-1326D84B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3688-D46A-4966-BA5E-B5E2EE03E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F08C-B691-4FE3-96DB-998819C8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E9EE-6AC5-49F4-9687-430FF0058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38C3-E1A3-4038-8057-4F568112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E7A-D604-4994-824B-814519A61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22E-0BDE-437C-B849-FB70AF4C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1F0-A064-49B3-919C-A6C87D32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D3E-5BBE-4C56-B740-F979D540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3C4-31C0-48F4-9648-978D581D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923-DF48-4AB1-866A-FDB00427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2F0-C667-4C87-AF71-DBBF68A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352-4F30-4654-8444-7B96E369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7A8-1E52-4CC2-A01B-EE73D94D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B7D-7183-4050-91E3-F16B8BCD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070-9606-4822-9883-EFF3A24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43A-B4C2-458D-BA66-FEDADB4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BAD-77C8-43E3-BBEC-DF5B0A7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F708-07E2-4B9E-A1D7-E26FB58B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F13-ACFE-498F-BDE0-CC97A5F3D714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85A-F899-49C0-AE3F-690F63C6BC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7" descr="ch1_cytoskeleton.jpg"/>
          <p:cNvPicPr/>
          <p:nvPr/>
        </p:nvPicPr>
        <p:blipFill>
          <a:blip r:embed="rId1"/>
          <a:stretch/>
        </p:blipFill>
        <p:spPr>
          <a:xfrm>
            <a:off x="5873760" y="4743360"/>
            <a:ext cx="3162240" cy="199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2050920" y="32432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AnimalCellColor"/>
          <p:cNvPicPr/>
          <p:nvPr/>
        </p:nvPicPr>
        <p:blipFill>
          <a:blip r:embed="rId2"/>
          <a:stretch/>
        </p:blipFill>
        <p:spPr>
          <a:xfrm>
            <a:off x="320760" y="168120"/>
            <a:ext cx="2584440" cy="256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nteract08"/>
          <p:cNvPicPr/>
          <p:nvPr/>
        </p:nvPicPr>
        <p:blipFill>
          <a:blip r:embed="rId3"/>
          <a:srcRect l="0" t="22004" r="0" b="17523"/>
          <a:stretch/>
        </p:blipFill>
        <p:spPr>
          <a:xfrm>
            <a:off x="6227640" y="620640"/>
            <a:ext cx="261936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6"/>
          <p:cNvGraphicFramePr/>
          <p:nvPr/>
        </p:nvGraphicFramePr>
        <p:xfrm>
          <a:off x="3419640" y="260280"/>
          <a:ext cx="223668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260280"/>
                    <a:ext cx="223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7"/>
          <p:cNvGraphicFramePr/>
          <p:nvPr/>
        </p:nvGraphicFramePr>
        <p:xfrm>
          <a:off x="136440" y="4653000"/>
          <a:ext cx="3067200" cy="21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6440" y="4653000"/>
                    <a:ext cx="306720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19" descr="chromosome"/>
          <p:cNvPicPr/>
          <p:nvPr/>
        </p:nvPicPr>
        <p:blipFill>
          <a:blip r:embed="rId8"/>
          <a:stretch/>
        </p:blipFill>
        <p:spPr>
          <a:xfrm>
            <a:off x="3348000" y="4724280"/>
            <a:ext cx="2120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268280"/>
          <a:ext cx="8229600" cy="493236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house of the ce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s energy (cellular respi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ir of cylinders that aid in 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-floating membrane-bound sac for sto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chloroplas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oto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(plants), small (animals) membrane-bound sacs filled with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gor pres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Box 7"/>
          <p:cNvSpPr/>
          <p:nvPr/>
        </p:nvSpPr>
        <p:spPr>
          <a:xfrm>
            <a:off x="714240" y="35002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928800" y="5357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cu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268280"/>
          <a:ext cx="8229600" cy="462780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entre of the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 all of the cell’s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us double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es nucleus from cytoplas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xture of chemicals that stores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in nucleic ac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body in the centre of the nucleus thought to make rib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7"/>
          <p:cNvSpPr/>
          <p:nvPr/>
        </p:nvSpPr>
        <p:spPr>
          <a:xfrm>
            <a:off x="2786040" y="4357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78588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2714760" y="27860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2714760" y="53578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00880" y="0"/>
            <a:ext cx="243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7FB9-5BD1-4B8E-9180-DA67472A885D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8F0D-A895-4EA6-85C1-2E0FF3D34A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Animal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0" y="1500120"/>
            <a:ext cx="498636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42920" y="135720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ntral 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has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 flipV="1">
            <a:off x="1928880" y="4000320"/>
            <a:ext cx="643320" cy="14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6" name="Group 98"/>
          <p:cNvGrpSpPr/>
          <p:nvPr/>
        </p:nvGrpSpPr>
        <p:grpSpPr>
          <a:xfrm>
            <a:off x="3070800" y="4571640"/>
            <a:ext cx="1018800" cy="1357560"/>
            <a:chOff x="3070800" y="4571640"/>
            <a:chExt cx="1018800" cy="1357560"/>
          </a:xfrm>
        </p:grpSpPr>
        <p:cxnSp>
          <p:nvCxnSpPr>
            <p:cNvPr id="67" name="Straight Arrow Connector 8"/>
            <p:cNvCxnSpPr/>
            <p:nvPr/>
          </p:nvCxnSpPr>
          <p:spPr>
            <a:xfrm flipV="1">
              <a:off x="3070800" y="5071320"/>
              <a:ext cx="857880" cy="857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10"/>
            <p:cNvCxnSpPr/>
            <p:nvPr/>
          </p:nvCxnSpPr>
          <p:spPr>
            <a:xfrm flipV="1">
              <a:off x="3071880" y="4571640"/>
              <a:ext cx="101808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9" name="Straight Arrow Connector 12"/>
          <p:cNvCxnSpPr/>
          <p:nvPr/>
        </p:nvCxnSpPr>
        <p:spPr>
          <a:xfrm flipH="1">
            <a:off x="4500720" y="1499760"/>
            <a:ext cx="64332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8"/>
          <p:cNvCxnSpPr/>
          <p:nvPr/>
        </p:nvCxnSpPr>
        <p:spPr>
          <a:xfrm flipH="1" flipV="1">
            <a:off x="5214600" y="4285800"/>
            <a:ext cx="15724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2"/>
          <p:cNvCxnSpPr/>
          <p:nvPr/>
        </p:nvCxnSpPr>
        <p:spPr>
          <a:xfrm>
            <a:off x="3571920" y="1499760"/>
            <a:ext cx="7200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25"/>
          <p:cNvCxnSpPr/>
          <p:nvPr/>
        </p:nvCxnSpPr>
        <p:spPr>
          <a:xfrm flipV="1">
            <a:off x="2142720" y="4214520"/>
            <a:ext cx="17154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28"/>
          <p:cNvCxnSpPr/>
          <p:nvPr/>
        </p:nvCxnSpPr>
        <p:spPr>
          <a:xfrm flipH="1" flipV="1">
            <a:off x="6786360" y="3571200"/>
            <a:ext cx="107208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31"/>
          <p:cNvCxnSpPr/>
          <p:nvPr/>
        </p:nvCxnSpPr>
        <p:spPr>
          <a:xfrm flipH="1" flipV="1">
            <a:off x="6143040" y="3642840"/>
            <a:ext cx="85788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34"/>
          <p:cNvCxnSpPr/>
          <p:nvPr/>
        </p:nvCxnSpPr>
        <p:spPr>
          <a:xfrm>
            <a:off x="2643120" y="2286000"/>
            <a:ext cx="9295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44"/>
          <p:cNvCxnSpPr/>
          <p:nvPr/>
        </p:nvCxnSpPr>
        <p:spPr>
          <a:xfrm>
            <a:off x="1928520" y="3714840"/>
            <a:ext cx="786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53"/>
          <p:cNvCxnSpPr/>
          <p:nvPr/>
        </p:nvCxnSpPr>
        <p:spPr>
          <a:xfrm flipV="1">
            <a:off x="2142720" y="4214160"/>
            <a:ext cx="78660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56"/>
          <p:cNvCxnSpPr/>
          <p:nvPr/>
        </p:nvCxnSpPr>
        <p:spPr>
          <a:xfrm flipV="1">
            <a:off x="2214360" y="4714560"/>
            <a:ext cx="12862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57"/>
          <p:cNvCxnSpPr/>
          <p:nvPr/>
        </p:nvCxnSpPr>
        <p:spPr>
          <a:xfrm flipH="1">
            <a:off x="5928480" y="1643040"/>
            <a:ext cx="11437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59"/>
          <p:cNvCxnSpPr/>
          <p:nvPr/>
        </p:nvCxnSpPr>
        <p:spPr>
          <a:xfrm flipH="1">
            <a:off x="5428440" y="2000160"/>
            <a:ext cx="1715400" cy="121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61"/>
          <p:cNvCxnSpPr/>
          <p:nvPr/>
        </p:nvCxnSpPr>
        <p:spPr>
          <a:xfrm flipH="1">
            <a:off x="6071760" y="2786040"/>
            <a:ext cx="572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2" name="Group 95"/>
          <p:cNvGrpSpPr/>
          <p:nvPr/>
        </p:nvGrpSpPr>
        <p:grpSpPr>
          <a:xfrm>
            <a:off x="5428800" y="1357200"/>
            <a:ext cx="1000440" cy="1357560"/>
            <a:chOff x="5428800" y="1357200"/>
            <a:chExt cx="1000440" cy="1357560"/>
          </a:xfrm>
        </p:grpSpPr>
        <p:cxnSp>
          <p:nvCxnSpPr>
            <p:cNvPr id="83" name="Straight Arrow Connector 11"/>
            <p:cNvCxnSpPr/>
            <p:nvPr/>
          </p:nvCxnSpPr>
          <p:spPr>
            <a:xfrm flipH="1">
              <a:off x="5428800" y="1357200"/>
              <a:ext cx="1000800" cy="114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5499720" y="2071800"/>
              <a:ext cx="28620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5" name="TextBox 74"/>
          <p:cNvSpPr/>
          <p:nvPr/>
        </p:nvSpPr>
        <p:spPr>
          <a:xfrm>
            <a:off x="642960" y="5429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5"/>
          <p:cNvSpPr/>
          <p:nvPr/>
        </p:nvSpPr>
        <p:spPr>
          <a:xfrm>
            <a:off x="2214720" y="60008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6"/>
          <p:cNvSpPr/>
          <p:nvPr/>
        </p:nvSpPr>
        <p:spPr>
          <a:xfrm>
            <a:off x="142920" y="46432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0"/>
          <p:cNvSpPr/>
          <p:nvPr/>
        </p:nvSpPr>
        <p:spPr>
          <a:xfrm>
            <a:off x="1214280" y="507204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1"/>
          <p:cNvSpPr/>
          <p:nvPr/>
        </p:nvSpPr>
        <p:spPr>
          <a:xfrm>
            <a:off x="214200" y="40006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3"/>
          <p:cNvSpPr/>
          <p:nvPr/>
        </p:nvSpPr>
        <p:spPr>
          <a:xfrm>
            <a:off x="142920" y="342900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5"/>
          <p:cNvSpPr/>
          <p:nvPr/>
        </p:nvSpPr>
        <p:spPr>
          <a:xfrm>
            <a:off x="6643800" y="50007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6"/>
          <p:cNvSpPr/>
          <p:nvPr/>
        </p:nvSpPr>
        <p:spPr>
          <a:xfrm>
            <a:off x="6715080" y="421488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7"/>
          <p:cNvSpPr/>
          <p:nvPr/>
        </p:nvSpPr>
        <p:spPr>
          <a:xfrm>
            <a:off x="7786800" y="3571920"/>
            <a:ext cx="121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9"/>
          <p:cNvSpPr/>
          <p:nvPr/>
        </p:nvSpPr>
        <p:spPr>
          <a:xfrm>
            <a:off x="6572160" y="242892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0"/>
          <p:cNvSpPr/>
          <p:nvPr/>
        </p:nvSpPr>
        <p:spPr>
          <a:xfrm>
            <a:off x="7072200" y="178596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1"/>
          <p:cNvSpPr/>
          <p:nvPr/>
        </p:nvSpPr>
        <p:spPr>
          <a:xfrm>
            <a:off x="6929280" y="135720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2"/>
          <p:cNvSpPr/>
          <p:nvPr/>
        </p:nvSpPr>
        <p:spPr>
          <a:xfrm>
            <a:off x="6072120" y="10000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2"/>
          <p:cNvSpPr/>
          <p:nvPr/>
        </p:nvSpPr>
        <p:spPr>
          <a:xfrm>
            <a:off x="4429080" y="10717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4"/>
          <p:cNvSpPr/>
          <p:nvPr/>
        </p:nvSpPr>
        <p:spPr>
          <a:xfrm>
            <a:off x="2500200" y="114300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lag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2"/>
          <p:cNvSpPr/>
          <p:nvPr/>
        </p:nvSpPr>
        <p:spPr>
          <a:xfrm>
            <a:off x="2143080" y="19288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F7BF-FFA6-44D4-AD98-FEE21A667E3E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09E-25D3-4A40-A557-0E870EA224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nt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14720" y="1428840"/>
            <a:ext cx="46479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42920" y="1357200"/>
            <a:ext cx="221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a large central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no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8"/>
          <p:cNvCxnSpPr/>
          <p:nvPr/>
        </p:nvCxnSpPr>
        <p:spPr>
          <a:xfrm>
            <a:off x="1928520" y="414288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1"/>
          <p:cNvCxnSpPr/>
          <p:nvPr/>
        </p:nvCxnSpPr>
        <p:spPr>
          <a:xfrm flipV="1">
            <a:off x="3071880" y="4714200"/>
            <a:ext cx="1000800" cy="1215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12"/>
          <p:cNvCxnSpPr/>
          <p:nvPr/>
        </p:nvCxnSpPr>
        <p:spPr>
          <a:xfrm flipH="1">
            <a:off x="4785840" y="1500120"/>
            <a:ext cx="8582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3"/>
          <p:cNvCxnSpPr/>
          <p:nvPr/>
        </p:nvCxnSpPr>
        <p:spPr>
          <a:xfrm flipH="1" flipV="1">
            <a:off x="5857200" y="4071600"/>
            <a:ext cx="114372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4"/>
          <p:cNvCxnSpPr/>
          <p:nvPr/>
        </p:nvCxnSpPr>
        <p:spPr>
          <a:xfrm>
            <a:off x="2000160" y="3785760"/>
            <a:ext cx="8582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6"/>
          <p:cNvCxnSpPr/>
          <p:nvPr/>
        </p:nvCxnSpPr>
        <p:spPr>
          <a:xfrm>
            <a:off x="1999800" y="3285720"/>
            <a:ext cx="13582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7"/>
          <p:cNvCxnSpPr>
            <a:stCxn id="113" idx="1"/>
          </p:cNvCxnSpPr>
          <p:nvPr/>
        </p:nvCxnSpPr>
        <p:spPr>
          <a:xfrm flipH="1" flipV="1">
            <a:off x="6000480" y="3428640"/>
            <a:ext cx="100080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2285640" y="4357080"/>
            <a:ext cx="50076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9"/>
          <p:cNvCxnSpPr/>
          <p:nvPr/>
        </p:nvCxnSpPr>
        <p:spPr>
          <a:xfrm flipH="1" flipV="1">
            <a:off x="5643000" y="5000040"/>
            <a:ext cx="5720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20"/>
          <p:cNvCxnSpPr/>
          <p:nvPr/>
        </p:nvCxnSpPr>
        <p:spPr>
          <a:xfrm>
            <a:off x="4070880" y="1428840"/>
            <a:ext cx="14364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21"/>
          <p:cNvCxnSpPr>
            <a:stCxn id="118" idx="1"/>
          </p:cNvCxnSpPr>
          <p:nvPr/>
        </p:nvCxnSpPr>
        <p:spPr>
          <a:xfrm flipH="1">
            <a:off x="5285880" y="2215080"/>
            <a:ext cx="1286640" cy="49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9" name="Group 22"/>
          <p:cNvGrpSpPr/>
          <p:nvPr/>
        </p:nvGrpSpPr>
        <p:grpSpPr>
          <a:xfrm>
            <a:off x="5000400" y="1785600"/>
            <a:ext cx="1000440" cy="786600"/>
            <a:chOff x="5000400" y="1785600"/>
            <a:chExt cx="1000440" cy="786600"/>
          </a:xfrm>
        </p:grpSpPr>
        <p:cxnSp>
          <p:nvCxnSpPr>
            <p:cNvPr id="120" name="Straight Arrow Connector 23"/>
            <p:cNvCxnSpPr/>
            <p:nvPr/>
          </p:nvCxnSpPr>
          <p:spPr>
            <a:xfrm flipH="1">
              <a:off x="5000400" y="1785600"/>
              <a:ext cx="1000800" cy="66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1" name="Straight Arrow Connector 24"/>
            <p:cNvCxnSpPr/>
            <p:nvPr/>
          </p:nvCxnSpPr>
          <p:spPr>
            <a:xfrm flipH="1">
              <a:off x="5071320" y="2200320"/>
              <a:ext cx="286200" cy="372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2" name="TextBox 25"/>
          <p:cNvSpPr/>
          <p:nvPr/>
        </p:nvSpPr>
        <p:spPr>
          <a:xfrm>
            <a:off x="7072200" y="50007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1071720" y="571500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285840" y="44290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7000920" y="3429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571680" y="3929040"/>
            <a:ext cx="15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5643720" y="607212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858000" y="42148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6572160" y="2000160"/>
            <a:ext cx="25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3"/>
          <p:cNvSpPr/>
          <p:nvPr/>
        </p:nvSpPr>
        <p:spPr>
          <a:xfrm>
            <a:off x="714240" y="3000240"/>
            <a:ext cx="121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2143080" y="1071720"/>
            <a:ext cx="157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5429160" y="114300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6"/>
          <p:cNvSpPr/>
          <p:nvPr/>
        </p:nvSpPr>
        <p:spPr>
          <a:xfrm>
            <a:off x="3500280" y="107172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5857920" y="15001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9"/>
          <p:cNvSpPr/>
          <p:nvPr/>
        </p:nvSpPr>
        <p:spPr>
          <a:xfrm>
            <a:off x="357120" y="35719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76"/>
          <p:cNvCxnSpPr/>
          <p:nvPr/>
        </p:nvCxnSpPr>
        <p:spPr>
          <a:xfrm>
            <a:off x="3571920" y="1714320"/>
            <a:ext cx="35784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15"/>
          <p:cNvCxnSpPr/>
          <p:nvPr/>
        </p:nvCxnSpPr>
        <p:spPr>
          <a:xfrm flipH="1" flipV="1">
            <a:off x="5928840" y="4572000"/>
            <a:ext cx="12866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s of a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o you remembe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 all books and notes :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16B4-851C-4CE7-8FC7-72A88325461C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904-25DF-4D01-AB4F-E0F45B03E8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4372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429160" y="53578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0080" y="54291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43720" y="2143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71720" y="492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071720" y="4429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25636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000080" y="30002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000080" y="16430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000080" y="25718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000080" y="20718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643720" y="30718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    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4920" y="1684440"/>
            <a:ext cx="4464000" cy="418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572000" y="1587600"/>
            <a:ext cx="45417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43912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tch with a partner!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small checkmark next to the correct answ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ir score out of 20 in the right hand corne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71640" y="1641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7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25970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71640" y="3063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71640" y="4503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971640" y="49737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71640" y="544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65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651640" y="310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65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5651640" y="5408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565164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4" descr="C:\Program Files\Microsoft Office\MEDIA\OFFICE11\Bullets\BD21301_.gif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C:\Program Files\Microsoft Office\MEDIA\OFFICE11\Bullets\BD21301_.gif"/>
          <p:cNvPicPr/>
          <p:nvPr/>
        </p:nvPicPr>
        <p:blipFill>
          <a:blip r:embed="rId2"/>
          <a:stretch/>
        </p:blipFill>
        <p:spPr>
          <a:xfrm>
            <a:off x="187200" y="1571760"/>
            <a:ext cx="3574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3BB-AAE4-4202-B5C9-7406E4999258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3289-7F43-4ABC-87E1-EE05BFE0C3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24000" y="1341360"/>
            <a:ext cx="849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s are the bas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its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many different kinds of cells, which are specialized to carry out particula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pite of this, cells have many common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Neuron"/>
          <p:cNvPicPr/>
          <p:nvPr/>
        </p:nvPicPr>
        <p:blipFill>
          <a:blip r:embed="rId1"/>
          <a:stretch/>
        </p:blipFill>
        <p:spPr>
          <a:xfrm>
            <a:off x="108000" y="4334040"/>
            <a:ext cx="3213000" cy="2408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White%20Blood%20Cell"/>
          <p:cNvPicPr/>
          <p:nvPr/>
        </p:nvPicPr>
        <p:blipFill>
          <a:blip r:embed="rId2"/>
          <a:srcRect l="0" t="0" r="0" b="4105"/>
          <a:stretch/>
        </p:blipFill>
        <p:spPr>
          <a:xfrm>
            <a:off x="3459240" y="4292640"/>
            <a:ext cx="2552760" cy="244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Bacteria"/>
          <p:cNvPicPr/>
          <p:nvPr/>
        </p:nvPicPr>
        <p:blipFill>
          <a:blip r:embed="rId3"/>
          <a:srcRect l="0" t="0" r="20228" b="12354"/>
          <a:stretch/>
        </p:blipFill>
        <p:spPr>
          <a:xfrm>
            <a:off x="6157800" y="4311720"/>
            <a:ext cx="295128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268280"/>
          <a:ext cx="8229600" cy="516096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perme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what enters/le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ed of phospholipid bilayer,   proteins, 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luid mosaic mod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gh rigid outer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sol (aqueous solution) and cell organelles outside the nucleus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Box 7"/>
          <p:cNvSpPr/>
          <p:nvPr/>
        </p:nvSpPr>
        <p:spPr>
          <a:xfrm>
            <a:off x="2786040" y="29289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2786040" y="45720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928800" y="60008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2857680" y="59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357960" y="142920"/>
            <a:ext cx="2359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765000"/>
          <a:ext cx="8229600" cy="560232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 endoplasmic reticulum (S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throughout cytoplasm to transport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f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with ribosomes attached (area for protein synthes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gi appar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s of membranes which modify protein for secretion (expo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s them into ves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 enzymes (proteins) that can break down molecules (food, bacteria, wastes, the cell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Box 7"/>
          <p:cNvSpPr/>
          <p:nvPr/>
        </p:nvSpPr>
        <p:spPr>
          <a:xfrm>
            <a:off x="714240" y="31575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h endoplasmic reticulum (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714760" y="35719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2857680" y="47862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15080" y="0"/>
            <a:ext cx="2217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55:15Z</dcterms:created>
  <dc:creator>OCDSB User</dc:creator>
  <dc:description/>
  <dc:language>en-US</dc:language>
  <cp:lastModifiedBy>mobilef</cp:lastModifiedBy>
  <dcterms:modified xsi:type="dcterms:W3CDTF">2013-03-12T20:23:09Z</dcterms:modified>
  <cp:revision>8</cp:revision>
  <dc:subject/>
  <dc:title>Slide 1</dc:title>
</cp:coreProperties>
</file>